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wmf" ContentType="image/x-wmf"/>
  <Override PartName="/ppt/media/image24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54EE-8F59-4452-9961-E34D93D75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676520" y="4375080"/>
            <a:ext cx="67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8997-7C9A-45AD-AD07-31A45093B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1600" y="274320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676520" y="437508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51600" y="437508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4545-192B-43DD-AD1E-56FE39238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21834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969360" y="2743200"/>
            <a:ext cx="21834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2560" y="2743200"/>
            <a:ext cx="21834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676520" y="4375080"/>
            <a:ext cx="21834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969360" y="4375080"/>
            <a:ext cx="21834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2560" y="4375080"/>
            <a:ext cx="21834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1759-9261-45D4-9D0C-B9ADBE424E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A76FB-D155-4C0A-B6BD-20CE25268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9306-47C3-4BF8-AF6F-8FE5F7740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3309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51600" y="2743200"/>
            <a:ext cx="3309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6E7F-AEC7-4E51-A395-30CA23913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BFF3-1E30-4C9F-A0CD-61A1188FC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76520" y="121896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FC13-F433-4B2F-933F-0786F7AFC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600" y="2743200"/>
            <a:ext cx="3309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676520" y="437508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0B96-763F-4E46-B72E-4AA089907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3309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600" y="274320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51600" y="437508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F3C8-88D5-4458-B9A3-54BFD0CFF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520" y="274320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1600" y="2743200"/>
            <a:ext cx="330912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676520" y="4375080"/>
            <a:ext cx="67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DCBF-027E-4C7B-B684-6E13A94A2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761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90CE-50D0-445E-8FE9-25A122C8E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57240" y="457200"/>
          <a:ext cx="1619280" cy="76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457200"/>
                    <a:ext cx="16192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 flipH="1">
            <a:off x="1676520" y="24382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219320"/>
            <a:ext cx="762120" cy="5638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219320"/>
            <a:ext cx="152280" cy="5638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219320"/>
            <a:ext cx="838080" cy="75960"/>
            <a:chOff x="0" y="1219320"/>
            <a:chExt cx="838080" cy="75960"/>
          </a:xfrm>
        </p:grpSpPr>
        <p:sp>
          <p:nvSpPr>
            <p:cNvPr id="10" name=""/>
            <p:cNvSpPr/>
            <p:nvPr/>
          </p:nvSpPr>
          <p:spPr>
            <a:xfrm>
              <a:off x="685800" y="12193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2193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685800" y="1371600"/>
            <a:ext cx="15228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1371600"/>
            <a:ext cx="685800" cy="76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0" y="1324080"/>
            <a:ext cx="838080" cy="75960"/>
            <a:chOff x="0" y="1324080"/>
            <a:chExt cx="838080" cy="75960"/>
          </a:xfrm>
        </p:grpSpPr>
        <p:sp>
          <p:nvSpPr>
            <p:cNvPr id="15" name=""/>
            <p:cNvSpPr/>
            <p:nvPr/>
          </p:nvSpPr>
          <p:spPr>
            <a:xfrm>
              <a:off x="685800" y="13240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13240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0" y="1428840"/>
            <a:ext cx="838080" cy="75960"/>
            <a:chOff x="0" y="1428840"/>
            <a:chExt cx="838080" cy="75960"/>
          </a:xfrm>
        </p:grpSpPr>
        <p:sp>
          <p:nvSpPr>
            <p:cNvPr id="18" name=""/>
            <p:cNvSpPr/>
            <p:nvPr/>
          </p:nvSpPr>
          <p:spPr>
            <a:xfrm>
              <a:off x="685800" y="14288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14288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0" y="1533600"/>
            <a:ext cx="838080" cy="75960"/>
            <a:chOff x="0" y="1533600"/>
            <a:chExt cx="838080" cy="75960"/>
          </a:xfrm>
        </p:grpSpPr>
        <p:sp>
          <p:nvSpPr>
            <p:cNvPr id="21" name=""/>
            <p:cNvSpPr/>
            <p:nvPr/>
          </p:nvSpPr>
          <p:spPr>
            <a:xfrm>
              <a:off x="685800" y="15336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15336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1638360"/>
            <a:ext cx="838080" cy="75960"/>
            <a:chOff x="0" y="1638360"/>
            <a:chExt cx="838080" cy="75960"/>
          </a:xfrm>
        </p:grpSpPr>
        <p:sp>
          <p:nvSpPr>
            <p:cNvPr id="24" name=""/>
            <p:cNvSpPr/>
            <p:nvPr/>
          </p:nvSpPr>
          <p:spPr>
            <a:xfrm>
              <a:off x="685800" y="16383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16383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0" y="1743120"/>
            <a:ext cx="838080" cy="75960"/>
            <a:chOff x="0" y="1743120"/>
            <a:chExt cx="838080" cy="75960"/>
          </a:xfrm>
        </p:grpSpPr>
        <p:sp>
          <p:nvSpPr>
            <p:cNvPr id="27" name=""/>
            <p:cNvSpPr/>
            <p:nvPr/>
          </p:nvSpPr>
          <p:spPr>
            <a:xfrm>
              <a:off x="685800" y="17431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17431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0" y="1847880"/>
            <a:ext cx="838080" cy="75960"/>
            <a:chOff x="0" y="1847880"/>
            <a:chExt cx="838080" cy="75960"/>
          </a:xfrm>
        </p:grpSpPr>
        <p:sp>
          <p:nvSpPr>
            <p:cNvPr id="30" name=""/>
            <p:cNvSpPr/>
            <p:nvPr/>
          </p:nvSpPr>
          <p:spPr>
            <a:xfrm>
              <a:off x="685800" y="18478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18478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" name=""/>
          <p:cNvGrpSpPr/>
          <p:nvPr/>
        </p:nvGrpSpPr>
        <p:grpSpPr>
          <a:xfrm>
            <a:off x="0" y="1952640"/>
            <a:ext cx="838080" cy="75960"/>
            <a:chOff x="0" y="1952640"/>
            <a:chExt cx="838080" cy="75960"/>
          </a:xfrm>
        </p:grpSpPr>
        <p:sp>
          <p:nvSpPr>
            <p:cNvPr id="33" name=""/>
            <p:cNvSpPr/>
            <p:nvPr/>
          </p:nvSpPr>
          <p:spPr>
            <a:xfrm>
              <a:off x="685800" y="19526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19526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0" y="2057400"/>
            <a:ext cx="838080" cy="75960"/>
            <a:chOff x="0" y="2057400"/>
            <a:chExt cx="838080" cy="75960"/>
          </a:xfrm>
        </p:grpSpPr>
        <p:sp>
          <p:nvSpPr>
            <p:cNvPr id="36" name=""/>
            <p:cNvSpPr/>
            <p:nvPr/>
          </p:nvSpPr>
          <p:spPr>
            <a:xfrm>
              <a:off x="685800" y="20574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20574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0" y="2162160"/>
            <a:ext cx="838080" cy="75960"/>
            <a:chOff x="0" y="2162160"/>
            <a:chExt cx="838080" cy="75960"/>
          </a:xfrm>
        </p:grpSpPr>
        <p:sp>
          <p:nvSpPr>
            <p:cNvPr id="39" name=""/>
            <p:cNvSpPr/>
            <p:nvPr/>
          </p:nvSpPr>
          <p:spPr>
            <a:xfrm>
              <a:off x="685800" y="21621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21621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0" y="2266920"/>
            <a:ext cx="838080" cy="75960"/>
            <a:chOff x="0" y="2266920"/>
            <a:chExt cx="838080" cy="75960"/>
          </a:xfrm>
        </p:grpSpPr>
        <p:sp>
          <p:nvSpPr>
            <p:cNvPr id="42" name=""/>
            <p:cNvSpPr/>
            <p:nvPr/>
          </p:nvSpPr>
          <p:spPr>
            <a:xfrm>
              <a:off x="685800" y="22669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22669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0" y="2371680"/>
            <a:ext cx="838080" cy="75960"/>
            <a:chOff x="0" y="2371680"/>
            <a:chExt cx="838080" cy="75960"/>
          </a:xfrm>
        </p:grpSpPr>
        <p:sp>
          <p:nvSpPr>
            <p:cNvPr id="45" name=""/>
            <p:cNvSpPr/>
            <p:nvPr/>
          </p:nvSpPr>
          <p:spPr>
            <a:xfrm>
              <a:off x="685800" y="23716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3716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0" y="2476440"/>
            <a:ext cx="838080" cy="75960"/>
            <a:chOff x="0" y="2476440"/>
            <a:chExt cx="838080" cy="75960"/>
          </a:xfrm>
        </p:grpSpPr>
        <p:sp>
          <p:nvSpPr>
            <p:cNvPr id="48" name=""/>
            <p:cNvSpPr/>
            <p:nvPr/>
          </p:nvSpPr>
          <p:spPr>
            <a:xfrm>
              <a:off x="685800" y="24764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764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0" y="2581200"/>
            <a:ext cx="838080" cy="75960"/>
            <a:chOff x="0" y="2581200"/>
            <a:chExt cx="838080" cy="75960"/>
          </a:xfrm>
        </p:grpSpPr>
        <p:sp>
          <p:nvSpPr>
            <p:cNvPr id="51" name=""/>
            <p:cNvSpPr/>
            <p:nvPr/>
          </p:nvSpPr>
          <p:spPr>
            <a:xfrm>
              <a:off x="685800" y="25812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5812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0" y="2685960"/>
            <a:ext cx="838080" cy="75960"/>
            <a:chOff x="0" y="2685960"/>
            <a:chExt cx="838080" cy="75960"/>
          </a:xfrm>
        </p:grpSpPr>
        <p:sp>
          <p:nvSpPr>
            <p:cNvPr id="54" name=""/>
            <p:cNvSpPr/>
            <p:nvPr/>
          </p:nvSpPr>
          <p:spPr>
            <a:xfrm>
              <a:off x="685800" y="26859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6859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0" y="2790720"/>
            <a:ext cx="838080" cy="75960"/>
            <a:chOff x="0" y="2790720"/>
            <a:chExt cx="838080" cy="75960"/>
          </a:xfrm>
        </p:grpSpPr>
        <p:sp>
          <p:nvSpPr>
            <p:cNvPr id="57" name=""/>
            <p:cNvSpPr/>
            <p:nvPr/>
          </p:nvSpPr>
          <p:spPr>
            <a:xfrm>
              <a:off x="685800" y="27907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7907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2895480"/>
            <a:ext cx="838080" cy="75960"/>
            <a:chOff x="0" y="2895480"/>
            <a:chExt cx="838080" cy="75960"/>
          </a:xfrm>
        </p:grpSpPr>
        <p:sp>
          <p:nvSpPr>
            <p:cNvPr id="60" name=""/>
            <p:cNvSpPr/>
            <p:nvPr/>
          </p:nvSpPr>
          <p:spPr>
            <a:xfrm>
              <a:off x="685800" y="28954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8954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3000240"/>
            <a:ext cx="838080" cy="75960"/>
            <a:chOff x="0" y="3000240"/>
            <a:chExt cx="838080" cy="75960"/>
          </a:xfrm>
        </p:grpSpPr>
        <p:sp>
          <p:nvSpPr>
            <p:cNvPr id="63" name=""/>
            <p:cNvSpPr/>
            <p:nvPr/>
          </p:nvSpPr>
          <p:spPr>
            <a:xfrm>
              <a:off x="685800" y="30002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0002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105000"/>
            <a:ext cx="838080" cy="75960"/>
            <a:chOff x="0" y="3105000"/>
            <a:chExt cx="838080" cy="75960"/>
          </a:xfrm>
        </p:grpSpPr>
        <p:sp>
          <p:nvSpPr>
            <p:cNvPr id="66" name=""/>
            <p:cNvSpPr/>
            <p:nvPr/>
          </p:nvSpPr>
          <p:spPr>
            <a:xfrm>
              <a:off x="685800" y="31050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1050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0" y="3209760"/>
            <a:ext cx="838080" cy="75960"/>
            <a:chOff x="0" y="3209760"/>
            <a:chExt cx="838080" cy="75960"/>
          </a:xfrm>
        </p:grpSpPr>
        <p:sp>
          <p:nvSpPr>
            <p:cNvPr id="69" name=""/>
            <p:cNvSpPr/>
            <p:nvPr/>
          </p:nvSpPr>
          <p:spPr>
            <a:xfrm>
              <a:off x="685800" y="32097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32097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0" y="3314880"/>
            <a:ext cx="838080" cy="75960"/>
            <a:chOff x="0" y="3314880"/>
            <a:chExt cx="838080" cy="75960"/>
          </a:xfrm>
        </p:grpSpPr>
        <p:sp>
          <p:nvSpPr>
            <p:cNvPr id="72" name=""/>
            <p:cNvSpPr/>
            <p:nvPr/>
          </p:nvSpPr>
          <p:spPr>
            <a:xfrm>
              <a:off x="685800" y="33148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3148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0" y="3419640"/>
            <a:ext cx="838080" cy="75960"/>
            <a:chOff x="0" y="3419640"/>
            <a:chExt cx="838080" cy="75960"/>
          </a:xfrm>
        </p:grpSpPr>
        <p:sp>
          <p:nvSpPr>
            <p:cNvPr id="75" name=""/>
            <p:cNvSpPr/>
            <p:nvPr/>
          </p:nvSpPr>
          <p:spPr>
            <a:xfrm>
              <a:off x="685800" y="34196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4196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0" y="3524400"/>
            <a:ext cx="838080" cy="75960"/>
            <a:chOff x="0" y="3524400"/>
            <a:chExt cx="838080" cy="75960"/>
          </a:xfrm>
        </p:grpSpPr>
        <p:sp>
          <p:nvSpPr>
            <p:cNvPr id="78" name=""/>
            <p:cNvSpPr/>
            <p:nvPr/>
          </p:nvSpPr>
          <p:spPr>
            <a:xfrm>
              <a:off x="685800" y="35244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5244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0" y="3629160"/>
            <a:ext cx="838080" cy="75960"/>
            <a:chOff x="0" y="3629160"/>
            <a:chExt cx="838080" cy="75960"/>
          </a:xfrm>
        </p:grpSpPr>
        <p:sp>
          <p:nvSpPr>
            <p:cNvPr id="81" name=""/>
            <p:cNvSpPr/>
            <p:nvPr/>
          </p:nvSpPr>
          <p:spPr>
            <a:xfrm>
              <a:off x="685800" y="36291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6291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0" y="3733920"/>
            <a:ext cx="838080" cy="75960"/>
            <a:chOff x="0" y="3733920"/>
            <a:chExt cx="838080" cy="75960"/>
          </a:xfrm>
        </p:grpSpPr>
        <p:sp>
          <p:nvSpPr>
            <p:cNvPr id="84" name=""/>
            <p:cNvSpPr/>
            <p:nvPr/>
          </p:nvSpPr>
          <p:spPr>
            <a:xfrm>
              <a:off x="685800" y="37339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7339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3838680"/>
            <a:ext cx="838080" cy="75960"/>
            <a:chOff x="0" y="3838680"/>
            <a:chExt cx="838080" cy="75960"/>
          </a:xfrm>
        </p:grpSpPr>
        <p:sp>
          <p:nvSpPr>
            <p:cNvPr id="87" name=""/>
            <p:cNvSpPr/>
            <p:nvPr/>
          </p:nvSpPr>
          <p:spPr>
            <a:xfrm>
              <a:off x="685800" y="38386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8386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0" y="3943440"/>
            <a:ext cx="838080" cy="75960"/>
            <a:chOff x="0" y="3943440"/>
            <a:chExt cx="838080" cy="75960"/>
          </a:xfrm>
        </p:grpSpPr>
        <p:sp>
          <p:nvSpPr>
            <p:cNvPr id="90" name=""/>
            <p:cNvSpPr/>
            <p:nvPr/>
          </p:nvSpPr>
          <p:spPr>
            <a:xfrm>
              <a:off x="685800" y="39434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9434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4048200"/>
            <a:ext cx="838080" cy="75960"/>
            <a:chOff x="0" y="4048200"/>
            <a:chExt cx="838080" cy="75960"/>
          </a:xfrm>
        </p:grpSpPr>
        <p:sp>
          <p:nvSpPr>
            <p:cNvPr id="93" name=""/>
            <p:cNvSpPr/>
            <p:nvPr/>
          </p:nvSpPr>
          <p:spPr>
            <a:xfrm>
              <a:off x="685800" y="40482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482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4152960"/>
            <a:ext cx="838080" cy="75960"/>
            <a:chOff x="0" y="4152960"/>
            <a:chExt cx="838080" cy="75960"/>
          </a:xfrm>
        </p:grpSpPr>
        <p:sp>
          <p:nvSpPr>
            <p:cNvPr id="96" name=""/>
            <p:cNvSpPr/>
            <p:nvPr/>
          </p:nvSpPr>
          <p:spPr>
            <a:xfrm>
              <a:off x="685800" y="41529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1529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4257720"/>
            <a:ext cx="838080" cy="75960"/>
            <a:chOff x="0" y="4257720"/>
            <a:chExt cx="838080" cy="75960"/>
          </a:xfrm>
        </p:grpSpPr>
        <p:sp>
          <p:nvSpPr>
            <p:cNvPr id="99" name=""/>
            <p:cNvSpPr/>
            <p:nvPr/>
          </p:nvSpPr>
          <p:spPr>
            <a:xfrm>
              <a:off x="685800" y="42577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2577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0" y="4362480"/>
            <a:ext cx="838080" cy="75960"/>
            <a:chOff x="0" y="4362480"/>
            <a:chExt cx="838080" cy="75960"/>
          </a:xfrm>
        </p:grpSpPr>
        <p:sp>
          <p:nvSpPr>
            <p:cNvPr id="102" name=""/>
            <p:cNvSpPr/>
            <p:nvPr/>
          </p:nvSpPr>
          <p:spPr>
            <a:xfrm>
              <a:off x="685800" y="43624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3624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0" y="4467240"/>
            <a:ext cx="838080" cy="75960"/>
            <a:chOff x="0" y="4467240"/>
            <a:chExt cx="838080" cy="75960"/>
          </a:xfrm>
        </p:grpSpPr>
        <p:sp>
          <p:nvSpPr>
            <p:cNvPr id="105" name=""/>
            <p:cNvSpPr/>
            <p:nvPr/>
          </p:nvSpPr>
          <p:spPr>
            <a:xfrm>
              <a:off x="685800" y="44672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4672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4572000"/>
            <a:ext cx="838080" cy="75960"/>
            <a:chOff x="0" y="4572000"/>
            <a:chExt cx="838080" cy="75960"/>
          </a:xfrm>
        </p:grpSpPr>
        <p:sp>
          <p:nvSpPr>
            <p:cNvPr id="108" name=""/>
            <p:cNvSpPr/>
            <p:nvPr/>
          </p:nvSpPr>
          <p:spPr>
            <a:xfrm>
              <a:off x="685800" y="45720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5720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4676760"/>
            <a:ext cx="838080" cy="75960"/>
            <a:chOff x="0" y="4676760"/>
            <a:chExt cx="838080" cy="75960"/>
          </a:xfrm>
        </p:grpSpPr>
        <p:sp>
          <p:nvSpPr>
            <p:cNvPr id="111" name=""/>
            <p:cNvSpPr/>
            <p:nvPr/>
          </p:nvSpPr>
          <p:spPr>
            <a:xfrm>
              <a:off x="685800" y="46767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46767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0" y="4781520"/>
            <a:ext cx="838080" cy="75960"/>
            <a:chOff x="0" y="4781520"/>
            <a:chExt cx="838080" cy="75960"/>
          </a:xfrm>
        </p:grpSpPr>
        <p:sp>
          <p:nvSpPr>
            <p:cNvPr id="114" name=""/>
            <p:cNvSpPr/>
            <p:nvPr/>
          </p:nvSpPr>
          <p:spPr>
            <a:xfrm>
              <a:off x="685800" y="47815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47815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4886280"/>
            <a:ext cx="838080" cy="75960"/>
            <a:chOff x="0" y="4886280"/>
            <a:chExt cx="838080" cy="75960"/>
          </a:xfrm>
        </p:grpSpPr>
        <p:sp>
          <p:nvSpPr>
            <p:cNvPr id="117" name=""/>
            <p:cNvSpPr/>
            <p:nvPr/>
          </p:nvSpPr>
          <p:spPr>
            <a:xfrm>
              <a:off x="685800" y="48862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48862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0" y="4991040"/>
            <a:ext cx="838080" cy="75960"/>
            <a:chOff x="0" y="4991040"/>
            <a:chExt cx="838080" cy="75960"/>
          </a:xfrm>
        </p:grpSpPr>
        <p:sp>
          <p:nvSpPr>
            <p:cNvPr id="120" name=""/>
            <p:cNvSpPr/>
            <p:nvPr/>
          </p:nvSpPr>
          <p:spPr>
            <a:xfrm>
              <a:off x="685800" y="49910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49910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0" y="5095800"/>
            <a:ext cx="838080" cy="75960"/>
            <a:chOff x="0" y="5095800"/>
            <a:chExt cx="838080" cy="75960"/>
          </a:xfrm>
        </p:grpSpPr>
        <p:sp>
          <p:nvSpPr>
            <p:cNvPr id="123" name=""/>
            <p:cNvSpPr/>
            <p:nvPr/>
          </p:nvSpPr>
          <p:spPr>
            <a:xfrm>
              <a:off x="685800" y="50958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50958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0" y="5200560"/>
            <a:ext cx="838080" cy="75960"/>
            <a:chOff x="0" y="5200560"/>
            <a:chExt cx="838080" cy="75960"/>
          </a:xfrm>
        </p:grpSpPr>
        <p:sp>
          <p:nvSpPr>
            <p:cNvPr id="126" name=""/>
            <p:cNvSpPr/>
            <p:nvPr/>
          </p:nvSpPr>
          <p:spPr>
            <a:xfrm>
              <a:off x="685800" y="52005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2005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0" y="5305320"/>
            <a:ext cx="838080" cy="75960"/>
            <a:chOff x="0" y="5305320"/>
            <a:chExt cx="838080" cy="75960"/>
          </a:xfrm>
        </p:grpSpPr>
        <p:sp>
          <p:nvSpPr>
            <p:cNvPr id="129" name=""/>
            <p:cNvSpPr/>
            <p:nvPr/>
          </p:nvSpPr>
          <p:spPr>
            <a:xfrm>
              <a:off x="685800" y="53053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53053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0" y="5410080"/>
            <a:ext cx="838080" cy="75960"/>
            <a:chOff x="0" y="5410080"/>
            <a:chExt cx="838080" cy="75960"/>
          </a:xfrm>
        </p:grpSpPr>
        <p:sp>
          <p:nvSpPr>
            <p:cNvPr id="132" name=""/>
            <p:cNvSpPr/>
            <p:nvPr/>
          </p:nvSpPr>
          <p:spPr>
            <a:xfrm>
              <a:off x="685800" y="54100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4100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5514840"/>
            <a:ext cx="838080" cy="75960"/>
            <a:chOff x="0" y="5514840"/>
            <a:chExt cx="838080" cy="75960"/>
          </a:xfrm>
        </p:grpSpPr>
        <p:sp>
          <p:nvSpPr>
            <p:cNvPr id="135" name=""/>
            <p:cNvSpPr/>
            <p:nvPr/>
          </p:nvSpPr>
          <p:spPr>
            <a:xfrm>
              <a:off x="685800" y="55148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55148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0" y="5619600"/>
            <a:ext cx="838080" cy="75960"/>
            <a:chOff x="0" y="5619600"/>
            <a:chExt cx="838080" cy="75960"/>
          </a:xfrm>
        </p:grpSpPr>
        <p:sp>
          <p:nvSpPr>
            <p:cNvPr id="138" name=""/>
            <p:cNvSpPr/>
            <p:nvPr/>
          </p:nvSpPr>
          <p:spPr>
            <a:xfrm>
              <a:off x="685800" y="56196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56196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0" y="5724360"/>
            <a:ext cx="838080" cy="75960"/>
            <a:chOff x="0" y="5724360"/>
            <a:chExt cx="838080" cy="75960"/>
          </a:xfrm>
        </p:grpSpPr>
        <p:sp>
          <p:nvSpPr>
            <p:cNvPr id="141" name=""/>
            <p:cNvSpPr/>
            <p:nvPr/>
          </p:nvSpPr>
          <p:spPr>
            <a:xfrm>
              <a:off x="685800" y="57243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57243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0" y="5829480"/>
            <a:ext cx="838080" cy="75960"/>
            <a:chOff x="0" y="5829480"/>
            <a:chExt cx="838080" cy="75960"/>
          </a:xfrm>
        </p:grpSpPr>
        <p:sp>
          <p:nvSpPr>
            <p:cNvPr id="144" name=""/>
            <p:cNvSpPr/>
            <p:nvPr/>
          </p:nvSpPr>
          <p:spPr>
            <a:xfrm>
              <a:off x="685800" y="58294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58294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0" y="5934240"/>
            <a:ext cx="838080" cy="75960"/>
            <a:chOff x="0" y="5934240"/>
            <a:chExt cx="838080" cy="75960"/>
          </a:xfrm>
        </p:grpSpPr>
        <p:sp>
          <p:nvSpPr>
            <p:cNvPr id="147" name=""/>
            <p:cNvSpPr/>
            <p:nvPr/>
          </p:nvSpPr>
          <p:spPr>
            <a:xfrm>
              <a:off x="685800" y="59342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59342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0" y="6039000"/>
            <a:ext cx="838080" cy="75960"/>
            <a:chOff x="0" y="6039000"/>
            <a:chExt cx="838080" cy="75960"/>
          </a:xfrm>
        </p:grpSpPr>
        <p:sp>
          <p:nvSpPr>
            <p:cNvPr id="150" name=""/>
            <p:cNvSpPr/>
            <p:nvPr/>
          </p:nvSpPr>
          <p:spPr>
            <a:xfrm>
              <a:off x="685800" y="60390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0390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0" y="6143760"/>
            <a:ext cx="838080" cy="75960"/>
            <a:chOff x="0" y="6143760"/>
            <a:chExt cx="838080" cy="75960"/>
          </a:xfrm>
        </p:grpSpPr>
        <p:sp>
          <p:nvSpPr>
            <p:cNvPr id="153" name=""/>
            <p:cNvSpPr/>
            <p:nvPr/>
          </p:nvSpPr>
          <p:spPr>
            <a:xfrm>
              <a:off x="685800" y="61437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1437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-4680" y="6248520"/>
            <a:ext cx="838080" cy="75960"/>
            <a:chOff x="-4680" y="6248520"/>
            <a:chExt cx="838080" cy="75960"/>
          </a:xfrm>
        </p:grpSpPr>
        <p:sp>
          <p:nvSpPr>
            <p:cNvPr id="156" name=""/>
            <p:cNvSpPr/>
            <p:nvPr/>
          </p:nvSpPr>
          <p:spPr>
            <a:xfrm>
              <a:off x="681120" y="62485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4680" y="62485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-4680" y="6353280"/>
            <a:ext cx="838080" cy="75960"/>
            <a:chOff x="-4680" y="6353280"/>
            <a:chExt cx="838080" cy="75960"/>
          </a:xfrm>
        </p:grpSpPr>
        <p:sp>
          <p:nvSpPr>
            <p:cNvPr id="159" name=""/>
            <p:cNvSpPr/>
            <p:nvPr/>
          </p:nvSpPr>
          <p:spPr>
            <a:xfrm>
              <a:off x="681120" y="63532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4680" y="635328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4680" y="6458040"/>
            <a:ext cx="838080" cy="75960"/>
            <a:chOff x="-4680" y="6458040"/>
            <a:chExt cx="838080" cy="75960"/>
          </a:xfrm>
        </p:grpSpPr>
        <p:sp>
          <p:nvSpPr>
            <p:cNvPr id="162" name=""/>
            <p:cNvSpPr/>
            <p:nvPr/>
          </p:nvSpPr>
          <p:spPr>
            <a:xfrm>
              <a:off x="681120" y="645804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4680" y="645804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-4680" y="6562800"/>
            <a:ext cx="838080" cy="75960"/>
            <a:chOff x="-4680" y="6562800"/>
            <a:chExt cx="838080" cy="75960"/>
          </a:xfrm>
        </p:grpSpPr>
        <p:sp>
          <p:nvSpPr>
            <p:cNvPr id="165" name=""/>
            <p:cNvSpPr/>
            <p:nvPr/>
          </p:nvSpPr>
          <p:spPr>
            <a:xfrm>
              <a:off x="681120" y="656280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-4680" y="656280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-4680" y="6667560"/>
            <a:ext cx="838080" cy="75960"/>
            <a:chOff x="-4680" y="6667560"/>
            <a:chExt cx="838080" cy="75960"/>
          </a:xfrm>
        </p:grpSpPr>
        <p:sp>
          <p:nvSpPr>
            <p:cNvPr id="168" name=""/>
            <p:cNvSpPr/>
            <p:nvPr/>
          </p:nvSpPr>
          <p:spPr>
            <a:xfrm>
              <a:off x="681120" y="666756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4680" y="666756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-4680" y="6772320"/>
            <a:ext cx="838080" cy="75960"/>
            <a:chOff x="-4680" y="6772320"/>
            <a:chExt cx="838080" cy="75960"/>
          </a:xfrm>
        </p:grpSpPr>
        <p:sp>
          <p:nvSpPr>
            <p:cNvPr id="171" name=""/>
            <p:cNvSpPr/>
            <p:nvPr/>
          </p:nvSpPr>
          <p:spPr>
            <a:xfrm>
              <a:off x="681120" y="677232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4680" y="6772320"/>
              <a:ext cx="6858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76520" y="0"/>
            <a:ext cx="7467480" cy="379440"/>
            <a:chOff x="1676520" y="0"/>
            <a:chExt cx="7467480" cy="379440"/>
          </a:xfrm>
        </p:grpSpPr>
        <p:sp>
          <p:nvSpPr>
            <p:cNvPr id="174" name=""/>
            <p:cNvSpPr/>
            <p:nvPr/>
          </p:nvSpPr>
          <p:spPr>
            <a:xfrm>
              <a:off x="1676520" y="0"/>
              <a:ext cx="7467480" cy="304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304920"/>
              <a:ext cx="7467480" cy="7452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6520" y="0"/>
              <a:ext cx="746748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100080"/>
              <a:ext cx="746748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195120"/>
              <a:ext cx="746748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6520" y="295200"/>
              <a:ext cx="746748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75800" y="20520"/>
            <a:ext cx="358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partamento de Comunicaciones y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00200" y="2362320"/>
            <a:ext cx="7010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696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irección de Administració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amento de Comunicaciones y Market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rvicio de Impuestos Interno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80920" y="594324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antiago, Enero del 2001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3352680"/>
            <a:ext cx="647712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studios del SII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studios Internacionales presentes en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revista Embajada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revistas Personas Extranjera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avegación por los sitios Web de las Administraciones Tributaria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ción de Apl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s frecu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Image39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8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6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3543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9" idx="1"/>
            <a:endCxn id="320" idx="1"/>
          </p:cNvCxnSpPr>
          <p:nvPr/>
        </p:nvCxnSpPr>
        <p:spPr>
          <a:xfrm flipH="1" flipV="1" rot="10800000">
            <a:off x="1599840" y="3124080"/>
            <a:ext cx="457920" cy="6483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7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8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3543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í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0" idx="1"/>
            <a:endCxn id="331" idx="1"/>
          </p:cNvCxnSpPr>
          <p:nvPr/>
        </p:nvCxnSpPr>
        <p:spPr>
          <a:xfrm flipH="1" flipV="1" rot="10800000">
            <a:off x="1599840" y="3124080"/>
            <a:ext cx="457920" cy="6483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1" idx="1"/>
          </p:cNvCxnSpPr>
          <p:nvPr/>
        </p:nvCxnSpPr>
        <p:spPr>
          <a:xfrm flipH="1" flipV="1" rot="10800000">
            <a:off x="2056320" y="3771000"/>
            <a:ext cx="762840" cy="64836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0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1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3543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í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4800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uimient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3" idx="1"/>
            <a:endCxn id="344" idx="1"/>
          </p:cNvCxnSpPr>
          <p:nvPr/>
        </p:nvCxnSpPr>
        <p:spPr>
          <a:xfrm flipH="1" flipV="1" rot="10800000">
            <a:off x="1599840" y="3124080"/>
            <a:ext cx="457920" cy="6483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4" idx="1"/>
          </p:cNvCxnSpPr>
          <p:nvPr/>
        </p:nvCxnSpPr>
        <p:spPr>
          <a:xfrm flipH="1" flipV="1" rot="10800000">
            <a:off x="2056320" y="3771000"/>
            <a:ext cx="762840" cy="64836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endCxn id="346" idx="1"/>
          </p:cNvCxnSpPr>
          <p:nvPr/>
        </p:nvCxnSpPr>
        <p:spPr>
          <a:xfrm flipH="1" flipV="1" rot="10800000">
            <a:off x="2514240" y="4419360"/>
            <a:ext cx="762840" cy="610200"/>
          </a:xfrm>
          <a:prstGeom prst="bentConnector3">
            <a:avLst>
              <a:gd name="adj1" fmla="val -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5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6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4111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í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472752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mient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o del I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8" idx="1"/>
            <a:endCxn id="359" idx="1"/>
          </p:cNvCxnSpPr>
          <p:nvPr/>
        </p:nvCxnSpPr>
        <p:spPr>
          <a:xfrm flipH="1" flipV="1" rot="10800000">
            <a:off x="1599840" y="3123720"/>
            <a:ext cx="457920" cy="6105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59" idx="1"/>
          </p:cNvCxnSpPr>
          <p:nvPr/>
        </p:nvCxnSpPr>
        <p:spPr>
          <a:xfrm flipH="1" flipV="1" rot="10800000">
            <a:off x="2056320" y="3732840"/>
            <a:ext cx="762840" cy="64836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H="1" flipV="1" rot="10800000">
            <a:off x="2514240" y="4419360"/>
            <a:ext cx="757800" cy="533880"/>
          </a:xfrm>
          <a:prstGeom prst="bentConnector3">
            <a:avLst>
              <a:gd name="adj1" fmla="val -2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1" idx="1"/>
          </p:cNvCxnSpPr>
          <p:nvPr/>
        </p:nvCxnSpPr>
        <p:spPr>
          <a:xfrm flipH="1" flipV="1" rot="10800000">
            <a:off x="3276360" y="4955760"/>
            <a:ext cx="762480" cy="534240"/>
          </a:xfrm>
          <a:prstGeom prst="bentConnector3">
            <a:avLst>
              <a:gd name="adj1" fmla="val -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2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3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Presencia en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350532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ágina Web inf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ío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2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Presencia en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3125880"/>
          <a:ext cx="723888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125880"/>
                    <a:ext cx="723888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3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4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7913880" y="6499080"/>
            <a:ext cx="91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7   PAIS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7320" y="6343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251424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STUDIO COMPARATIV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ciones de Renta por Internet en las Administraciones Tributarias de diferentes país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574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4111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nví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72752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Seguimient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911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ago del Im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8" idx="1"/>
            <a:endCxn id="399" idx="1"/>
          </p:cNvCxnSpPr>
          <p:nvPr/>
        </p:nvCxnSpPr>
        <p:spPr>
          <a:xfrm flipH="1" flipV="1" rot="10800000">
            <a:off x="1599840" y="3123720"/>
            <a:ext cx="457920" cy="6105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9" idx="1"/>
          </p:cNvCxnSpPr>
          <p:nvPr/>
        </p:nvCxnSpPr>
        <p:spPr>
          <a:xfrm flipH="1" flipV="1" rot="10800000">
            <a:off x="2056320" y="3732840"/>
            <a:ext cx="762840" cy="64836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/>
          <p:nvPr/>
        </p:nvCxnSpPr>
        <p:spPr>
          <a:xfrm flipH="1" flipV="1" rot="10800000">
            <a:off x="2514240" y="4419360"/>
            <a:ext cx="757800" cy="533880"/>
          </a:xfrm>
          <a:prstGeom prst="bentConnector3">
            <a:avLst>
              <a:gd name="adj1" fmla="val -2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1" idx="1"/>
          </p:cNvCxnSpPr>
          <p:nvPr/>
        </p:nvCxnSpPr>
        <p:spPr>
          <a:xfrm flipH="1" flipV="1" rot="10800000">
            <a:off x="3276360" y="4955760"/>
            <a:ext cx="762480" cy="534240"/>
          </a:xfrm>
          <a:prstGeom prst="bentConnector3">
            <a:avLst>
              <a:gd name="adj1" fmla="val -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3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"/>
          <p:cNvSpPr/>
          <p:nvPr/>
        </p:nvSpPr>
        <p:spPr>
          <a:xfrm>
            <a:off x="1698480" y="2774880"/>
            <a:ext cx="212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utent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35280" y="3352680"/>
            <a:ext cx="437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 datos Pers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5" idx="1"/>
            <a:endCxn id="416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3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4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1828800" y="3962520"/>
            <a:ext cx="3581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sil -Canadá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os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emplo : CNPT en 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8229600" y="348948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8229600" y="3870360"/>
            <a:ext cx="295200" cy="17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"/>
          <p:cNvSpPr/>
          <p:nvPr/>
        </p:nvSpPr>
        <p:spPr>
          <a:xfrm>
            <a:off x="1698480" y="2774880"/>
            <a:ext cx="212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utent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31680" y="335268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29" idx="1"/>
            <a:endCxn id="430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7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38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1828800" y="3657600"/>
            <a:ext cx="678168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alia-Inglaterra-España-Singapur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obtiene on-line con “folio” declaración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envía password por email al contrib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glaterra-Ital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ser cambiada en forma on-line por el contribuyente (Inglater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identifica la persona y no el 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8305920" y="4267080"/>
            <a:ext cx="274680" cy="1796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305920" y="38862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305920" y="348624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8305920" y="4724280"/>
            <a:ext cx="269640" cy="1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1698480" y="2774880"/>
            <a:ext cx="212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utent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33840" y="3352680"/>
            <a:ext cx="336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ificado Digital o P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5" idx="1"/>
            <a:endCxn id="446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53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54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828800" y="3809880"/>
            <a:ext cx="61722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tralia-Irlanda-España-Inglaterra-EE.UU-México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obtiene “on-line” u “off-line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a “folio” declaración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ebe ir a la unidad a comprobar identidad (España-Méxic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ío del certificado digital por email. (Irlanda- Austral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identifica el Computador y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8229600" y="34783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229600" y="3809880"/>
            <a:ext cx="399960" cy="2016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229600" y="4267080"/>
            <a:ext cx="274680" cy="1796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8229600" y="46483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8229600" y="50785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8229600" y="5459400"/>
            <a:ext cx="295200" cy="17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1775520" y="2774880"/>
            <a:ext cx="197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tent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523880" y="2914560"/>
          <a:ext cx="68389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914560"/>
                    <a:ext cx="6838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1775520" y="2774880"/>
            <a:ext cx="197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tent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0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1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1833480" y="33526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idación con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endCxn id="482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1828800" y="3962520"/>
            <a:ext cx="67816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utiliza “folio” año anterior para obtener pass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dencia a utilizar P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utilizan password y PKI (Inglaterra- Españ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dores pueden utilizar la password del cl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en estar inscritos en la A.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95480" y="4111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í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472752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Seguimient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911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ago del Im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86" idx="1"/>
            <a:endCxn id="487" idx="1"/>
          </p:cNvCxnSpPr>
          <p:nvPr/>
        </p:nvCxnSpPr>
        <p:spPr>
          <a:xfrm flipH="1" flipV="1" rot="10800000">
            <a:off x="1599840" y="3123720"/>
            <a:ext cx="457920" cy="6105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7" idx="1"/>
          </p:cNvCxnSpPr>
          <p:nvPr/>
        </p:nvCxnSpPr>
        <p:spPr>
          <a:xfrm flipH="1" flipV="1" rot="10800000">
            <a:off x="2056320" y="3732840"/>
            <a:ext cx="762840" cy="64836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/>
          <p:nvPr/>
        </p:nvCxnSpPr>
        <p:spPr>
          <a:xfrm flipH="1" flipV="1" rot="10800000">
            <a:off x="2514240" y="4419360"/>
            <a:ext cx="757800" cy="533880"/>
          </a:xfrm>
          <a:prstGeom prst="bentConnector3">
            <a:avLst>
              <a:gd name="adj1" fmla="val -2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89" idx="1"/>
          </p:cNvCxnSpPr>
          <p:nvPr/>
        </p:nvCxnSpPr>
        <p:spPr>
          <a:xfrm flipH="1" flipV="1" rot="10800000">
            <a:off x="3276360" y="4955760"/>
            <a:ext cx="762480" cy="534240"/>
          </a:xfrm>
          <a:prstGeom prst="bentConnector3">
            <a:avLst>
              <a:gd name="adj1" fmla="val -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0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1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8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9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1885680" y="2774880"/>
            <a:ext cx="32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vío de la Decla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33120" y="3352680"/>
            <a:ext cx="323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ulario Electró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0" idx="1"/>
            <a:endCxn id="511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1828800" y="39625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á-Irlanda-España-Brasil-Singapur-México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ción on-line lógica y matemá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Irlanda - Méx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rio en formato excell ( Singapu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8229600" y="3809880"/>
            <a:ext cx="399960" cy="201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8229600" y="4267080"/>
            <a:ext cx="274680" cy="179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8229600" y="54594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8229600" y="4724280"/>
            <a:ext cx="295200" cy="1796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5"/>
          <a:stretch/>
        </p:blipFill>
        <p:spPr>
          <a:xfrm>
            <a:off x="8229600" y="35053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8229600" y="5105520"/>
            <a:ext cx="270000" cy="17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6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7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1885680" y="2774880"/>
            <a:ext cx="32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vío de la Decla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35280" y="3352680"/>
            <a:ext cx="48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ftware Administración Tribu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8" idx="1"/>
            <a:endCxn id="529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1828800" y="3809880"/>
            <a:ext cx="61722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tralia - EE.UU. - Canadá - Irlanda - Italia - Alemania -España - Inglaterra - Brasil. 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 se obtiene por Internet, teléfono u oficinas de la A.T. (Inglaterra, Méxic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ye la declaración en base a preguntas que responde el contribuyente.(Australia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ciones matemáticas y lógicas (Australia-EE.UU.-Canadá-Irlanda-México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8305920" y="3733920"/>
            <a:ext cx="399960" cy="2016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305920" y="4191120"/>
            <a:ext cx="274680" cy="179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8305920" y="46483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8305920" y="34290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8305920" y="57913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8305920" y="50101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"/>
          <a:stretch/>
        </p:blipFill>
        <p:spPr>
          <a:xfrm>
            <a:off x="8305920" y="61722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8305920" y="5334120"/>
            <a:ext cx="295200" cy="17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2595600" y="51325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7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8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1885680" y="2774880"/>
            <a:ext cx="32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vío de la Decla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32400" y="335268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ftware Comer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49" idx="1"/>
            <a:endCxn id="550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1828800" y="3962520"/>
            <a:ext cx="6934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á - España - EE.UU. - Inglaterra.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enviar hasta 5 Declar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áneamente (EE.UU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8229600" y="43164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8229600" y="3554280"/>
            <a:ext cx="295200" cy="1796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8229600" y="4773600"/>
            <a:ext cx="274680" cy="179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8229600" y="3935520"/>
            <a:ext cx="295200" cy="17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27432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r los servicios para Declarar Renta por Internet ofrecidos por las Administraciones Tributaria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r los servicios ofrecidos por el SI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ocer las mejores prácticas internacionales y aplicarlas en la Operación Renta 2001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1885680" y="2774880"/>
            <a:ext cx="32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vío de la Decla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371600" y="3162240"/>
          <a:ext cx="7010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162240"/>
                    <a:ext cx="7010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6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7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"/>
          <p:cNvSpPr/>
          <p:nvPr/>
        </p:nvSpPr>
        <p:spPr>
          <a:xfrm>
            <a:off x="1885680" y="2774880"/>
            <a:ext cx="321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vío de la Decla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5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1833480" y="33526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idación con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endCxn id="577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1828800" y="3962520"/>
            <a:ext cx="6934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dencia a utilizar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enviar hasta 5 Declaraciones simultáneamente (EE.U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ciones matemáticas y lógi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574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4111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nví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72752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uimient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911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ago del Im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1" idx="1"/>
            <a:endCxn id="582" idx="1"/>
          </p:cNvCxnSpPr>
          <p:nvPr/>
        </p:nvCxnSpPr>
        <p:spPr>
          <a:xfrm flipH="1" flipV="1" rot="10800000">
            <a:off x="1599840" y="3123720"/>
            <a:ext cx="457920" cy="6105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82" idx="1"/>
          </p:cNvCxnSpPr>
          <p:nvPr/>
        </p:nvCxnSpPr>
        <p:spPr>
          <a:xfrm flipH="1" flipV="1" rot="10800000">
            <a:off x="2056320" y="3732840"/>
            <a:ext cx="762840" cy="64836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/>
          <p:nvPr/>
        </p:nvCxnSpPr>
        <p:spPr>
          <a:xfrm flipH="1" flipV="1" rot="10800000">
            <a:off x="2514240" y="4419360"/>
            <a:ext cx="757800" cy="533880"/>
          </a:xfrm>
          <a:prstGeom prst="bentConnector3">
            <a:avLst>
              <a:gd name="adj1" fmla="val -2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4" idx="1"/>
          </p:cNvCxnSpPr>
          <p:nvPr/>
        </p:nvCxnSpPr>
        <p:spPr>
          <a:xfrm flipH="1" flipV="1" rot="10800000">
            <a:off x="3276360" y="4955760"/>
            <a:ext cx="762480" cy="534240"/>
          </a:xfrm>
          <a:prstGeom prst="bentConnector3">
            <a:avLst>
              <a:gd name="adj1" fmla="val -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5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6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8" name=""/>
          <p:cNvSpPr/>
          <p:nvPr/>
        </p:nvSpPr>
        <p:spPr>
          <a:xfrm>
            <a:off x="3200400" y="76212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4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5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6" name=""/>
          <p:cNvSpPr/>
          <p:nvPr/>
        </p:nvSpPr>
        <p:spPr>
          <a:xfrm>
            <a:off x="1956960" y="2774880"/>
            <a:ext cx="423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eguimiento de la Declar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33840" y="3352680"/>
            <a:ext cx="278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a de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8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1828800" y="3962520"/>
            <a:ext cx="67816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landa -España - México - Brasil.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 estado de la declaración: Aceptada-Recha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 declaraciones, cartas de avis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os de pago (Irl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8134200" y="484992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8134200" y="4535640"/>
            <a:ext cx="274680" cy="1792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8134200" y="408780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8134200" y="3621240"/>
            <a:ext cx="400320" cy="20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9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0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1831320" y="3352680"/>
            <a:ext cx="213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vío de e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"/>
          <p:cNvCxnSpPr>
            <a:endCxn id="622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"/>
          <p:cNvSpPr/>
          <p:nvPr/>
        </p:nvSpPr>
        <p:spPr>
          <a:xfrm>
            <a:off x="1828800" y="3962520"/>
            <a:ext cx="6781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tralia - EE.UU. - Irlanda - Canadá - Inglaterra.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 estado de la declaración: Aceptada-Recha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 declaraciones, cartas de aviso, recibos de pago (Irl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ío de Información sobre como solucionar los errores. (EE.U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8210520" y="47736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8210520" y="5154480"/>
            <a:ext cx="295200" cy="1796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8210520" y="39355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4"/>
          <a:stretch/>
        </p:blipFill>
        <p:spPr>
          <a:xfrm>
            <a:off x="8210520" y="43164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5"/>
          <a:stretch/>
        </p:blipFill>
        <p:spPr>
          <a:xfrm>
            <a:off x="8210520" y="3630600"/>
            <a:ext cx="399960" cy="2016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1956960" y="2774880"/>
            <a:ext cx="423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eguimiento de la Declar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143000" y="2743200"/>
          <a:ext cx="6991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6991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9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0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956960" y="2774880"/>
            <a:ext cx="423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eguimiento de la Declar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8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9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50" name=""/>
          <p:cNvSpPr/>
          <p:nvPr/>
        </p:nvSpPr>
        <p:spPr>
          <a:xfrm>
            <a:off x="1833480" y="33526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idación con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"/>
          <p:cNvCxnSpPr>
            <a:endCxn id="650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2" name=""/>
          <p:cNvSpPr/>
          <p:nvPr/>
        </p:nvSpPr>
        <p:spPr>
          <a:xfrm>
            <a:off x="1828800" y="396252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lta para ver el estado de la decla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ío de información para corregir una declaración recha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ción en procesos bach. 1 semana después se envía email con estado de la declaración  (EE.U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56960" y="2774880"/>
            <a:ext cx="423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eguimiento de la Declar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dentificación de Factores Clav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2895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esencia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utent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4111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nví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4727520"/>
            <a:ext cx="47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Seguimiento de la 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11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o del Im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stCxn id="655" idx="1"/>
            <a:endCxn id="656" idx="1"/>
          </p:cNvCxnSpPr>
          <p:nvPr/>
        </p:nvCxnSpPr>
        <p:spPr>
          <a:xfrm flipH="1" flipV="1" rot="10800000">
            <a:off x="1599840" y="3123720"/>
            <a:ext cx="457920" cy="610560"/>
          </a:xfrm>
          <a:prstGeom prst="bentConnector3">
            <a:avLst>
              <a:gd name="adj1" fmla="val -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1" name=""/>
          <p:cNvCxnSpPr>
            <a:stCxn id="656" idx="1"/>
          </p:cNvCxnSpPr>
          <p:nvPr/>
        </p:nvCxnSpPr>
        <p:spPr>
          <a:xfrm flipH="1" flipV="1" rot="10800000">
            <a:off x="2056320" y="3732840"/>
            <a:ext cx="762840" cy="64836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2" name=""/>
          <p:cNvCxnSpPr/>
          <p:nvPr/>
        </p:nvCxnSpPr>
        <p:spPr>
          <a:xfrm flipH="1" flipV="1" rot="10800000">
            <a:off x="2514240" y="4419360"/>
            <a:ext cx="757800" cy="533880"/>
          </a:xfrm>
          <a:prstGeom prst="bentConnector3">
            <a:avLst>
              <a:gd name="adj1" fmla="val -2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58" idx="1"/>
          </p:cNvCxnSpPr>
          <p:nvPr/>
        </p:nvCxnSpPr>
        <p:spPr>
          <a:xfrm flipH="1" flipV="1" rot="10800000">
            <a:off x="3276360" y="4955760"/>
            <a:ext cx="762480" cy="534240"/>
          </a:xfrm>
          <a:prstGeom prst="bentConnector3">
            <a:avLst>
              <a:gd name="adj1" fmla="val -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9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0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"/>
          <p:cNvSpPr/>
          <p:nvPr/>
        </p:nvSpPr>
        <p:spPr>
          <a:xfrm>
            <a:off x="1782720" y="2774880"/>
            <a:ext cx="26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Pago del Impues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8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9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80" name=""/>
          <p:cNvSpPr/>
          <p:nvPr/>
        </p:nvSpPr>
        <p:spPr>
          <a:xfrm>
            <a:off x="1828800" y="3886200"/>
            <a:ext cx="670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tralia-Finlandia-España-México-Irlanda-Inglaterra-EE.UU.-Brasil.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io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o Dif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ta 48 horas antes de la fecha de vencimiento (EE.UU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33480" y="3352680"/>
            <a:ext cx="35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encia electró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endCxn id="681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8153280" y="4724280"/>
            <a:ext cx="295560" cy="1796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8153280" y="5029200"/>
            <a:ext cx="274680" cy="1792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8153280" y="3352680"/>
            <a:ext cx="295560" cy="17964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8153280" y="5334120"/>
            <a:ext cx="293760" cy="1792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5"/>
          <a:stretch/>
        </p:blipFill>
        <p:spPr>
          <a:xfrm>
            <a:off x="8153280" y="5638680"/>
            <a:ext cx="295560" cy="1796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6"/>
          <a:stretch/>
        </p:blipFill>
        <p:spPr>
          <a:xfrm>
            <a:off x="8153280" y="396252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7"/>
          <a:stretch/>
        </p:blipFill>
        <p:spPr>
          <a:xfrm>
            <a:off x="8153280" y="434340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8"/>
          <a:stretch/>
        </p:blipFill>
        <p:spPr>
          <a:xfrm>
            <a:off x="8153280" y="3657600"/>
            <a:ext cx="400320" cy="20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7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8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9" name=""/>
          <p:cNvSpPr/>
          <p:nvPr/>
        </p:nvSpPr>
        <p:spPr>
          <a:xfrm>
            <a:off x="1782720" y="2774880"/>
            <a:ext cx="26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Pago del Impues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88620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jeta de crédito:EE.UU.-Singapur.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jeta de débito: Singapur.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jetas Banc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de cada tarj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34920" y="3352680"/>
            <a:ext cx="36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rjeta de crédito o débi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endCxn id="701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7620120" y="38592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7620120" y="3554280"/>
            <a:ext cx="269640" cy="1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09320" y="2743200"/>
            <a:ext cx="6782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rland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Singapu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eci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E.UU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Méxic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landi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glaterr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Alemani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anci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Brasi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namarc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nadá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Itali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rueg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Holand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aíses del Estudi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046400" y="3666960"/>
            <a:ext cx="295560" cy="179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733400" y="4038480"/>
            <a:ext cx="295560" cy="179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046400" y="404820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733400" y="441972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1733400" y="320040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1733400" y="4876920"/>
            <a:ext cx="274680" cy="179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405480" y="35910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1733400" y="3581280"/>
            <a:ext cx="295560" cy="179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4046400" y="441972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405480" y="28195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4046400" y="3286080"/>
            <a:ext cx="295560" cy="179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1733400" y="2895480"/>
            <a:ext cx="400320" cy="201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4046400" y="2819520"/>
            <a:ext cx="270000" cy="179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6405480" y="4038480"/>
            <a:ext cx="304920" cy="25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6405480" y="3200400"/>
            <a:ext cx="293760" cy="179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4046400" y="4876920"/>
            <a:ext cx="270000" cy="17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6405480" y="4419720"/>
            <a:ext cx="244440" cy="179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523880" y="5486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= 17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/>
          <p:nvPr/>
        </p:nvSpPr>
        <p:spPr>
          <a:xfrm>
            <a:off x="1782720" y="2774880"/>
            <a:ext cx="26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Pago del Impues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1123920" y="2705040"/>
          <a:ext cx="7221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2705040"/>
                    <a:ext cx="7221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3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4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5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7" name=""/>
          <p:cNvSpPr/>
          <p:nvPr/>
        </p:nvSpPr>
        <p:spPr>
          <a:xfrm>
            <a:off x="1782720" y="2774880"/>
            <a:ext cx="26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Pago del Impues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3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4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1833480" y="33526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idación con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endCxn id="725" idx="1"/>
          </p:cNvCxnSpPr>
          <p:nvPr/>
        </p:nvCxnSpPr>
        <p:spPr>
          <a:xfrm flipH="1" flipV="1" rot="10800000">
            <a:off x="1599120" y="2988360"/>
            <a:ext cx="229320" cy="578520"/>
          </a:xfrm>
          <a:prstGeom prst="bentConnector3">
            <a:avLst>
              <a:gd name="adj1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1828800" y="3962520"/>
            <a:ext cx="67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o más utilizado es la transferencia electrónica de fo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e pago dif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a externo, no depende de las A.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9" name=""/>
          <p:cNvSpPr/>
          <p:nvPr/>
        </p:nvSpPr>
        <p:spPr>
          <a:xfrm>
            <a:off x="1799640" y="2774880"/>
            <a:ext cx="289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Información Gen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5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6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37" name=""/>
          <p:cNvSpPr/>
          <p:nvPr/>
        </p:nvSpPr>
        <p:spPr>
          <a:xfrm>
            <a:off x="685800" y="3352680"/>
            <a:ext cx="82296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personas que declaran por Internet están obligadas a pagar electrónicamente. (Méx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multan los errores honestos producto del mal uso del software     (Inglater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 nuevo contribuyente está obligado a declarar por Internet (Singapu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 las personas que declaran vía Internet se las premia con una disminución de los montos a pagar entre f10 a f50. ( Inglater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vestigación exploratori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9" name=""/>
          <p:cNvSpPr/>
          <p:nvPr/>
        </p:nvSpPr>
        <p:spPr>
          <a:xfrm>
            <a:off x="1799640" y="2774880"/>
            <a:ext cx="289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Información Gen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45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685800" y="3429000"/>
            <a:ext cx="84582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promoción se realiza en televisión, radio y periódicos. ( Canad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xiste cierre automático de sesión log-off (Canadá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A.T segmenta sus servicios en: Personas , Empresas  y Profesionales Jubilados y Agentes de impuestos.(Austral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C en oficinas de la A.T.(Irland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dores ingresan 1 email por contribuyente. (Irl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 “DEMO” para enseñar etapas de la Declaración. (Irland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xiste una clara tendencia de las A.T. a utilizar Internet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os procesos de Declaración de Renta son similares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enticación-Envío-Pago-Segu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a Autenticación es sólo la “Necesaria”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os medios de envío so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rio Electrónico y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nclusiones general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5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6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Las Validaciones Matemáticas y Lógicas son on-lin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Se realizan procesos Bach para validar  con las Declaraciones de Empresas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Los tiempos y errores por Internet son menores.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La A.T. no administra las formas de pago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nclusiones general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4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5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2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3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74" name=""/>
          <p:cNvSpPr/>
          <p:nvPr/>
        </p:nvSpPr>
        <p:spPr>
          <a:xfrm>
            <a:off x="1981080" y="121932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cación de países con mayor av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 declaraciones de renta por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rdenados según desarrollo)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2133720" y="2133720"/>
          <a:ext cx="567684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5676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2362320" y="3352680"/>
            <a:ext cx="295200" cy="17964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4"/>
          <a:stretch/>
        </p:blipFill>
        <p:spPr>
          <a:xfrm>
            <a:off x="2362320" y="2457360"/>
            <a:ext cx="342720" cy="17316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5"/>
          <a:stretch/>
        </p:blipFill>
        <p:spPr>
          <a:xfrm>
            <a:off x="2362320" y="457200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2362320" y="396252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2343240" y="4991040"/>
            <a:ext cx="295200" cy="17928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8"/>
          <a:stretch/>
        </p:blipFill>
        <p:spPr>
          <a:xfrm>
            <a:off x="2362320" y="5315040"/>
            <a:ext cx="274680" cy="1792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9"/>
          <a:stretch/>
        </p:blipFill>
        <p:spPr>
          <a:xfrm>
            <a:off x="2362320" y="5638680"/>
            <a:ext cx="269640" cy="17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nclusiones general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0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1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2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793" name=""/>
          <p:cNvGraphicFramePr/>
          <p:nvPr/>
        </p:nvGraphicFramePr>
        <p:xfrm>
          <a:off x="857160" y="2171880"/>
          <a:ext cx="796284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171880"/>
                    <a:ext cx="796284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nclusiones general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2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3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aphicFrame>
        <p:nvGraphicFramePr>
          <p:cNvPr id="804" name=""/>
          <p:cNvGraphicFramePr/>
          <p:nvPr/>
        </p:nvGraphicFramePr>
        <p:xfrm>
          <a:off x="533520" y="2190600"/>
          <a:ext cx="796284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90600"/>
                    <a:ext cx="796284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1676520" y="27432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nclusiones general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2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13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14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15" name=""/>
          <p:cNvSpPr/>
          <p:nvPr/>
        </p:nvSpPr>
        <p:spPr>
          <a:xfrm>
            <a:off x="533520" y="2514600"/>
            <a:ext cx="82296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0000"/>
              </a:lnSpc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tilizar el email como vía de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arrollar un software “amistoso” ( sin el concepto de liviano)que se obtenga por Internet, teléfono o en las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ilitar el acceso a Int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yuda para confeccionar la declaración por personal capaci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cesos Bach periód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go de impuestos por tarjetas de crédito-débito  bancarias o de cas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corporar “demostraciones” de las aplic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etodología de Estudi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600200" y="251424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STUDIO COMPARATIV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ciones de Renta por Internet en las Administraciones Tributarias de diferentes paíse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etodología de Estudi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etodología de Estudi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ción de Factores claves a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1" idx="2"/>
            <a:endCxn id="250" idx="0"/>
          </p:cNvCxnSpPr>
          <p:nvPr/>
        </p:nvCxnSpPr>
        <p:spPr>
          <a:xfrm>
            <a:off x="4990680" y="32767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etodología de Estudi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57" name=""/>
          <p:cNvCxnSpPr/>
          <p:nvPr/>
        </p:nvCxnSpPr>
        <p:spPr>
          <a:xfrm>
            <a:off x="4992480" y="41144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167652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ción de Factores claves a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4" idx="2"/>
            <a:endCxn id="263" idx="0"/>
          </p:cNvCxnSpPr>
          <p:nvPr/>
        </p:nvCxnSpPr>
        <p:spPr>
          <a:xfrm>
            <a:off x="4990680" y="32767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1523880" y="4724280"/>
            <a:ext cx="69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ción co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etodología de Estudio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1601640" y="5715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endCxn id="268" idx="0"/>
          </p:cNvCxnSpPr>
          <p:nvPr/>
        </p:nvCxnSpPr>
        <p:spPr>
          <a:xfrm>
            <a:off x="4992480" y="51814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0" y="274320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6385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753160"/>
            <a:ext cx="609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/>
          <p:nvPr/>
        </p:nvCxnSpPr>
        <p:spPr>
          <a:xfrm>
            <a:off x="304560" y="3200400"/>
            <a:ext cx="108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>
            <a:off x="304920" y="417204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/>
          <p:nvPr/>
        </p:nvCxnSpPr>
        <p:spPr>
          <a:xfrm>
            <a:off x="304560" y="521964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/>
          <p:nvPr/>
        </p:nvCxnSpPr>
        <p:spPr>
          <a:xfrm>
            <a:off x="4992480" y="41144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167652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ción de Factores claves a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2"/>
            <a:endCxn id="278" idx="0"/>
          </p:cNvCxnSpPr>
          <p:nvPr/>
        </p:nvCxnSpPr>
        <p:spPr>
          <a:xfrm>
            <a:off x="4990680" y="32767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1523880" y="4724280"/>
            <a:ext cx="69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ción co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5:10:10Z</dcterms:created>
  <dc:creator>jsilvab</dc:creator>
  <dc:description/>
  <dc:language>en-US</dc:language>
  <cp:lastModifiedBy>jsilvab</cp:lastModifiedBy>
  <cp:lastPrinted>2001-01-04T13:46:04Z</cp:lastPrinted>
  <dcterms:modified xsi:type="dcterms:W3CDTF">2001-01-05T22:01:09Z</dcterms:modified>
  <cp:revision>47</cp:revision>
  <dc:subject/>
  <dc:title>ESTUDIO COMPA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jsilvab@sii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Sii_2000\renta internacional\html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