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92C-63BA-4AB4-9FB6-EE8D9DE5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345-EAD8-4EDC-B98F-A1B0D632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7B5-795C-4597-A1A3-75D70501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815-7C83-45EC-B852-378E17C4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0F7-4956-42C1-86B7-7FBEAF5C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1EC-4837-4FFF-83E2-3C15E322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188-1C55-4CC8-ADAA-CB8E4D8B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512-0D87-427D-9342-AE8FCEE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B0E-5EA7-4B3B-A22D-F6831B6C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FF7-2850-4C2F-A4F2-AD3CE5E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BB0-E81A-4A61-8205-1E041760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DBA-80DF-436F-8EB6-4976A214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205D-DBA4-4B09-A0D3-BBCD462AA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0880" y="380880"/>
          <a:ext cx="85345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5345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22:36:53Z</dcterms:created>
  <dc:creator>G_Gonzalez</dc:creator>
  <dc:description/>
  <dc:language>en-US</dc:language>
  <cp:lastModifiedBy>usuario</cp:lastModifiedBy>
  <dcterms:modified xsi:type="dcterms:W3CDTF">2000-10-05T23:46:10Z</dcterms:modified>
  <cp:revision>1</cp:revision>
  <dc:subject/>
  <dc:title>Sin título de diapositiva</dc:title>
</cp:coreProperties>
</file>